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643-C0D7-462B-B114-E7249976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8E6-E538-47EF-8790-3C24D9A9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1FDE6-E842-4D02-AE23-FC6C3E2C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27A1F-755D-4F29-B3E0-E304A98C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74B28-64B5-4A86-B35E-FDF1E997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75EE7-2236-4726-9598-D7972EFD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6F9DB-FB12-4F35-AFCC-5EE61F1B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A7BDA-FAB0-4710-9314-4E5CA593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ED9EE-8B69-4444-A776-B90CCF0A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4F425-964F-4AEF-84F7-6FB80F58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C8A20-C75D-48E4-B25C-94DF96DD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694-140D-480F-B978-654ABD15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FC2-C07E-4E65-AC12-D1C32464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2F13-756A-4ACF-81FA-78E06203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A0B3-10BF-4320-AEB2-E605128F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E83A-173A-4438-9249-55893FD3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F2A6-CBAA-4699-9C6B-3397FED2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CB69-CBAF-48A0-9140-894138BF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CBAE-9554-402B-8BB6-A1620EA7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6FD9-70C8-465D-A0B4-7D81284F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0254-8639-45D8-99FE-6D9DC705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2285-6787-4D47-8915-5307F6EB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4C68-7604-45F7-BA41-DAF767F5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6A6A-2076-4C52-B3F8-5725D9F3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4690-94EC-4078-988D-3BFEC250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E958-5ACF-48D9-B8FA-5B1DEC8A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7A6B7-694D-4BFE-B3E8-A24C5529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A8891-8D71-445F-BA4C-A009B0B3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3AA23-AFA2-4096-A50A-F44A2A4F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03E76-9B31-48C1-9F83-F5ECAADF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D40F3-F030-4BC9-B3C1-AC0C61B0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DB5-6459-4935-BE1F-A81D2A79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E03FE-DAE8-4804-80D1-1DEB56D1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492E3-A924-41DC-B9F4-9C4DEB9B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AD145-A8C7-49AF-A7EA-4A73D4F6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747B6-59B9-4848-953A-C1083CA2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F693C-37C1-4D03-8E12-F9249D79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76591-57A1-40E2-92CF-94B11DBC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C5864-7736-4935-B435-1E0FA334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5703C-369D-468F-8386-D254C50D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4CD85-CA8E-49B2-9A07-927B8981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60B22-9258-4616-AB71-8FCDAAD7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CC3-294D-4DC1-8D89-408DA5DB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3D69D-36D6-4EEF-8200-C81CC948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A3300-B39C-4CF8-B4EC-29A237B6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B5E7B-B6BE-460B-BE00-93C7E108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5F0DE-4F9A-458A-8C4F-FE7B08AE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59F8C-CA72-4469-A96B-807813DE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1EBF5-0900-4EB9-BAA0-8205F160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22395-6DBA-40F9-97EA-49067342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12822-46FE-4926-9CC2-54A0FA6B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0F2AD-49EE-49F3-B21F-A3CE71A0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CE1C5-8690-490E-B71B-0F6D8040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B8A-97F7-447A-94A6-57B86A04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4611E-9E21-4B2C-B428-41D0E031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E3FFC-2FA9-4F27-AFF9-154EE5EB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128FB-B435-4DFA-AA2D-D845F190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35F66-AE1A-4333-9C73-63C995BC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46963-3CD0-481B-8B90-828124B0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513FB-7999-4AE5-B0C6-58C1E934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5483D-21C4-401E-BA2C-D1652B68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1D156-B655-446A-9EF8-0ACFC649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A3B9C-6D90-4EAB-9E98-D6792B0D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E5BC4-1C66-4F67-9AE5-E950B94A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412-AB00-4E99-B6E2-C7010469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12CBE-76E0-4D55-BAF0-057050CF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5F649-2EAA-4A27-9B7E-73337DFA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AA0E3-8389-44A5-9C0A-7D1F132C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976DA-F6D3-42E8-BD73-7C06D75F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F2FA2-4F09-4FD7-A64D-03224A34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469FC-B67A-4383-B228-8D623313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E4D58-539F-4130-86FF-E34D500A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CE397-D4A4-44E7-947C-6D1ADFD9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50399-C805-445A-A731-4B8B0E69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2B4B9-84AC-4A7B-BE55-5464BCBD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E655-2D2C-4175-97ED-BB9F69CF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BC01E-6396-4F33-B1A5-9F9C221D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6B057-5B0D-4352-877B-0D240888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75708-4119-441B-994D-914DD754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2CA67-7524-4C8B-AF7A-987E856F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7C6F6-D36A-40AB-B247-73565B60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E1FBC-A661-4429-AEDA-9454A5DE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6ED7E-4174-4CE0-AE67-BE04E652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FBE0D-C833-4B67-95E1-2499427C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9DCDF-782D-4DAC-B51A-9C2228C8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1CD19-0284-48CB-843B-CA0E56EE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DC2-2BF8-4960-BF27-7ECCF9C4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E566D-E46D-4BF4-868C-E987A4C5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928C6-9854-438B-8DFB-60A8A541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FA576-FEDB-429F-8475-D79E9D13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C270E-18F2-434C-9A9C-4FD344FB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676D1-45D0-41F9-8194-23EA3783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58E3F-A6B1-41D8-9EBD-8F31E659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9604B-134A-4C37-8C7B-A87DFC89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805CA-36DA-4D83-89EB-924B9D8B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2561A-A070-4F21-ADF1-05CF357F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F40C5-A062-4491-A442-3246BE66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554C-7C25-4001-9774-2AA9ADD0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F3F95-3409-44C0-89D1-5C7A9618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03839-442E-4255-8A62-65481B42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EEB69-F9FB-4F18-904F-B1F5AFC6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628AA-5C28-4434-B54E-11A1D1C6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60B2B-DDF9-4427-9121-A1D3A4E2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10648-B01F-4E83-977A-0B4A4C80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D200F-DBF6-4D46-8DD5-DB2A454F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FAA58-C100-4115-AAF5-D7372938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9E04E-9BF0-4443-BC1E-7F52DBE4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BCE11-A20B-4229-ACD8-173B08D2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Click to edit the title text format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BA2D-9AE1-4625-A121-0AB49CCD6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C9B8-23A8-47A0-B75B-8A26CF4F0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520" y="2941200"/>
            <a:ext cx="716292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223F-3F16-4639-9F0B-238894040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9225-3055-4D0B-A908-4C74982A2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46b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646b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BF62-A0C4-4950-B554-43A1502BE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46b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646b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523520" y="2941200"/>
            <a:ext cx="716292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F12A-5193-480D-88B5-3F1850C80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231F-BB8B-4BFD-A32C-2F9A63051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C55D-079C-471C-94D8-97006E194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523520" y="2941200"/>
            <a:ext cx="716292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005E-D261-4FF0-BBFC-192EE7DAC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Chapter 6 and 7 Review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uary 29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speech to convince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persuasive speech designed to influence audience beliefs and attitudes rather than behavi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speech to actuate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persuasive speech designed to influence audience behavi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speech to entertain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speech designed to make a point through the creative, organized use of humorous supporting materi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general purpose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broad goal of a speech (such as to persuade, to inform, to entertain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specific purpose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statement of the general purpose of a speech, the speaker’s intended audience, and the limited goal or out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thesis statement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one sentence synopsis of the speaker’s mess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cc"/>
                </a:solidFill>
                <a:latin typeface="Haunt AOE"/>
              </a:rPr>
              <a:t>Why is it important to focus your topic?  Explain using examples of a focused topic and an unfocused topic.</a:t>
            </a: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important to focus your topic in order to guide your resea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also allows you to address more substance in your spee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ly, limiting your topic gives you time to support the ideas you present in your spee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focused topic: footb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ed topic: the Super Bo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Haunt AOE"/>
              </a:rPr>
              <a:t>What four questions can you ask yourself to guide your topic selection?  Explain why each one is important</a:t>
            </a: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.</a:t>
            </a: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is topic interest 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pick one that doesn’t, pleas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is topic interesting or important to my listen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your au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 I likely to find sufficient supporting materials on this topi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obscure topics may be difficult to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I know enough about this topic to start researching it and interpret what I discov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prior knowledge do you hav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Short answer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people are more likely to open up more when they interact verbally and nonverbally, which interview format is likely to give you the most information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e-to-face interviewing will likely give you the most in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Readers' Guide to Periodical Literat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a resource that indexes magazine arti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is most prolific publisher in the United Stat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nited States federal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Short answer, continued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ere the first books to come to the U.S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manacs and Bi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first step in researching a topi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step is assessing your personal knowled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advantages of interviewing as a way of conducting resear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erson you interview may be able to suggest other sources of information.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nterview can help you adapt your topic to your specific audience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al interviews can enhance your image as a speaker.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ome topics, a personal interview may be your only op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brainstorm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noncritical free association to generate as many ideas as possible in a short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True/False Questions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manacs are excellent sources when you need specific facts and background information on a topic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lly speaking, information retrieved from Internet sources is less likely to have the level of quality assurance as database sourc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you retrieve by using academic search engines will be less focused and of lower quality than you are likely to gather using a general, commercial search tool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arch is not just one-step of the speech construction process but rather it should occur throughout the proces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should assess your personal knowledge of a speech topic after developing your research pla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Fill in the Blank 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SEAR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athering of evidence and arguments you will need to understand, develop, and explain your top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(n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PEECH FI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file that contains each speech you have giv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1750-1900, the sum total of humankind’s knowledg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UBL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dvantage of usi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ATAB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dexes is that the information you get has presumably already been evalu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hoo and Google are examples of two widely us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ARCH ENGI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Describe an article file and explain why it is important.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rticle file includes informative articles on topics that interest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gives you a head start on selecting and researching topics for speec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What questions begin your research plan?  What is their purpose?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nformation do I ne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m I most likely to find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I obtain this infor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ill time constraints affect my research op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160" y="274680"/>
            <a:ext cx="84582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What are ethical dilemmas and how do they affect speech making?  Use examples to illustrate your points.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18960" y="2438280"/>
            <a:ext cx="74674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a choice regarding the topics you want to pres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, topics that are exciting may not be appropri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self-generated topics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speech subjects based on the speaker’s interests, experiences, and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audience-generated topics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speech subjects geared to the interests and needs of a speaker’s liste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occasion-generated topics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speech subjects derived from the particular circumstances, seasons, holidays, or life ev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research-generated topics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speech subjects discovered by investigating a variety of 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visual brainstorming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n informal written outline achieved by free associating around a key word or id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speech to inform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speech designed to convey new and/or useful information in a balanced, objective 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speech to persuade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speech designed to influence listeners’ beliefs and/or 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23:19:14Z</dcterms:created>
  <dc:creator>nuhs</dc:creator>
  <dc:description/>
  <dc:language>en-US</dc:language>
  <cp:lastModifiedBy>nuhs</cp:lastModifiedBy>
  <dcterms:modified xsi:type="dcterms:W3CDTF">2008-01-29T22:36:14Z</dcterms:modified>
  <cp:revision>8</cp:revision>
  <dc:subject/>
  <dc:title>Chapter 6 and 7 Review</dc:title>
</cp:coreProperties>
</file>